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png" ContentType="image/png"/>
  <Override PartName="/ppt/media/image5.png" ContentType="image/png"/>
  <Override PartName="/ppt/media/image8.jpeg" ContentType="image/jpe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1F8D-127F-42E8-A575-2DDB51839D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97320-C9E7-43C1-B6B3-8A17AB3D9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B5654-0E18-47E4-8048-5B359D640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70564A-027C-4785-AB50-7575C97A3E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99445D-AED1-417A-B7D2-20BD9D1D95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D00B1-A7C1-4EF8-B5DA-3B07DF91F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63693-70BF-4286-A997-4BE2FFC6C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1FF4E-6AB2-4CFC-82ED-9B3548D92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D9DB8-93B0-420A-92C7-62B8D5AC1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4923B-AA5A-4B52-8E91-28D1FABD3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43A8A-A78C-4863-B0B5-5E0C52E3C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E491B-01B1-4D12-A78B-86F631EB1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D09FA-391C-45B8-BDEB-85327FB5AF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4C35F-AAE1-4918-B2B8-6DC8416C7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Cultural Contribution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Pract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ce/Philosoph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ies/Inven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_x001f_masks51816236815316#CEAEA51.gif                                00071491_x000c_Macintosh HD                   BEF76014:"/>
          <p:cNvPicPr/>
          <p:nvPr/>
        </p:nvPicPr>
        <p:blipFill>
          <a:blip r:embed="rId1"/>
          <a:stretch/>
        </p:blipFill>
        <p:spPr>
          <a:xfrm>
            <a:off x="1743120" y="609480"/>
            <a:ext cx="565632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edy</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in the pres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a happy en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ked fun at certain politicians in the audience (not the brightest ide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poked fun at a certain kind of per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Comed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phanes - found something funny about every o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know that the first </a:t>
            </a:r>
            <a:r>
              <a:rPr b="0" i="1" lang="en-US" sz="3200" spc="-1" strike="noStrike">
                <a:solidFill>
                  <a:srgbClr val="000000"/>
                </a:solidFill>
                <a:latin typeface="Times New Roman"/>
              </a:rPr>
              <a:t>Shrek</a:t>
            </a:r>
            <a:r>
              <a:rPr b="0" lang="en-US" sz="3200" spc="-1" strike="noStrike">
                <a:solidFill>
                  <a:srgbClr val="000000"/>
                </a:solidFill>
                <a:latin typeface="Times New Roman"/>
              </a:rPr>
              <a:t> movie followed the rules for Shakespearean and ancient Greek comedy?  Check it 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_x000b_shrek13.jpg                                                    00071491_x000c_Macintosh HD                   BEF76014:"/>
          <p:cNvPicPr/>
          <p:nvPr/>
        </p:nvPicPr>
        <p:blipFill>
          <a:blip r:embed="rId1"/>
          <a:stretch/>
        </p:blipFill>
        <p:spPr>
          <a:xfrm>
            <a:off x="685800" y="1011240"/>
            <a:ext cx="777240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rPr>
              <a:t>A typical comedy:</a:t>
            </a:r>
            <a:endParaRPr b="0" lang="en-US" sz="12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is set (at least in part) in the country, which is often depicted as a magic, idealized place (coming back from rescuing Fiona, Shrek’s swamp).</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has shepherds, farmers and other middle-class people as characters (though it may have royal and upper-class characters, as well) - (townsfolk, soldiers, Monsieur Hood, fairy tale characters, ogre/hero, prince/villain).</a:t>
            </a:r>
            <a:endParaRPr b="0" lang="en-US" sz="1300" spc="-1" strike="noStrike">
              <a:solidFill>
                <a:srgbClr val="000000"/>
              </a:solidFill>
              <a:latin typeface="Times New Roman"/>
            </a:endParaRPr>
          </a:p>
          <a:p>
            <a:pPr marL="343080" indent="0" algn="ctr">
              <a:lnSpc>
                <a:spcPct val="2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opens by showing the hero in some kind of distress, troubled by a problem and trying to figure out a way to solve it (fairy tale characters move to Shrek’s swamp after being evicted, he wants them to leave).</a:t>
            </a: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criticizes society or specific people in society in a funny way (prince is small and compensates for his size with gigantic surroundings).</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hero’s triumph (Shrek gets Fiona and his swamp back).</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frequently closes with a scene in which a wedding or another type of celebration takes place (Shrek marries Fiona).</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reestablishment of order and a sense that a new “golden age” is beginning (song “I’m A Believer,” prince is killed, soldiers become nice, Shrek and Fiona ride off in a carriage, - they all lived happily ever after).</a:t>
            </a:r>
            <a:endParaRPr b="0" lang="en-US" sz="13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Philosoph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 - studying the laws of nature; scienti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osophy - loving wisdom; philosoph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were called philosoph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rates (below)</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6" descr="_x0016_200px-Socrates.bmp.jpg                                         00071491_x000c_Macintosh HD                   BEF76014:"/>
          <p:cNvPicPr/>
          <p:nvPr/>
        </p:nvPicPr>
        <p:blipFill>
          <a:blip r:embed="rId1"/>
          <a:stretch/>
        </p:blipFill>
        <p:spPr>
          <a:xfrm>
            <a:off x="3925800" y="4114800"/>
            <a:ext cx="12906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for ki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is websi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historyforkids.org/learn/greeks/philosophy/socrates.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s is supposed to be of Socrates,</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ut it was made after he had already been dead for some tim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y someone who did not know what Socrates looked lik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e believed people could discover truth if they knew how to think.</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Plato was his pupil.</a:t>
            </a:r>
            <a:endParaRPr b="0" lang="en-US" sz="1300" spc="-1" strike="noStrike">
              <a:solidFill>
                <a:srgbClr val="000000"/>
              </a:solidFill>
              <a:latin typeface="Times New Roman"/>
            </a:endParaRPr>
          </a:p>
        </p:txBody>
      </p:sp>
      <p:pic>
        <p:nvPicPr>
          <p:cNvPr id="87" name="Picture 5" descr="_x000c_socrates.gif                                                   00071491_x000c_Macintosh HD                   BEF76014:"/>
          <p:cNvPicPr/>
          <p:nvPr/>
        </p:nvPicPr>
        <p:blipFill>
          <a:blip r:embed="rId1"/>
          <a:stretch/>
        </p:blipFill>
        <p:spPr>
          <a:xfrm>
            <a:off x="3825720" y="1981080"/>
            <a:ext cx="149076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ww.mythweb.com</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is website to learn more about Greek gods and heroes.</a:t>
            </a:r>
            <a:endParaRPr b="0" lang="en-US" sz="2800" spc="-1" strike="noStrike">
              <a:solidFill>
                <a:srgbClr val="000000"/>
              </a:solidFill>
              <a:latin typeface="Times New Roman"/>
            </a:endParaRPr>
          </a:p>
        </p:txBody>
      </p:sp>
      <p:pic>
        <p:nvPicPr>
          <p:cNvPr id="52" name="Picture 5" descr=""/>
          <p:cNvPicPr/>
          <p:nvPr/>
        </p:nvPicPr>
        <p:blipFill>
          <a:blip r:embed="rId1"/>
          <a:stretch/>
        </p:blipFill>
        <p:spPr>
          <a:xfrm>
            <a:off x="1122480" y="1981080"/>
            <a:ext cx="2936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19814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udent of Socrat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school was called the Academy</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rote The Republic about an ideal stat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th could be found after a long, hard search</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his brightest pupils was Aristotle</a:t>
            </a:r>
            <a:endParaRPr b="0" lang="en-US" sz="2400" spc="-1" strike="noStrike">
              <a:solidFill>
                <a:srgbClr val="000000"/>
              </a:solidFill>
              <a:latin typeface="Times New Roman"/>
            </a:endParaRPr>
          </a:p>
        </p:txBody>
      </p:sp>
      <p:pic>
        <p:nvPicPr>
          <p:cNvPr id="90" name="Picture 5" descr="&#9;plat1.jpg                                                      00071491_x000c_Macintosh HD                   BEF76014:"/>
          <p:cNvPicPr/>
          <p:nvPr/>
        </p:nvPicPr>
        <p:blipFill>
          <a:blip r:embed="rId1"/>
          <a:stretch/>
        </p:blipFill>
        <p:spPr>
          <a:xfrm>
            <a:off x="3941640" y="4114800"/>
            <a:ext cx="125892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s Academy</a:t>
            </a:r>
            <a:endParaRPr b="0" lang="en-US" sz="4400" spc="-1" strike="noStrike">
              <a:solidFill>
                <a:srgbClr val="000000"/>
              </a:solidFill>
              <a:latin typeface="Times New Roman"/>
            </a:endParaRPr>
          </a:p>
        </p:txBody>
      </p:sp>
      <p:pic>
        <p:nvPicPr>
          <p:cNvPr id="92" name="Picture 5" descr="_x0008_acad.jpg                                                       0CEAF0E4_x000c_Macintosh HD                   BEF76014:"/>
          <p:cNvPicPr/>
          <p:nvPr/>
        </p:nvPicPr>
        <p:blipFill>
          <a:blip r:embed="rId1"/>
          <a:stretch/>
        </p:blipFill>
        <p:spPr>
          <a:xfrm>
            <a:off x="1709640" y="1981080"/>
            <a:ext cx="572472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 and Aristotle</a:t>
            </a:r>
            <a:endParaRPr b="0" lang="en-US" sz="4400" spc="-1" strike="noStrike">
              <a:solidFill>
                <a:srgbClr val="000000"/>
              </a:solidFill>
              <a:latin typeface="Times New Roman"/>
            </a:endParaRPr>
          </a:p>
        </p:txBody>
      </p:sp>
      <p:pic>
        <p:nvPicPr>
          <p:cNvPr id="94" name="Picture 7" descr="_x001f_180px-Sanzio_01_Pla#CEAF10F.jpg                                0CEAF0E3_x000c_Macintosh HD                   BEF76014:"/>
          <p:cNvPicPr/>
          <p:nvPr/>
        </p:nvPicPr>
        <p:blipFill>
          <a:blip r:embed="rId1"/>
          <a:stretch/>
        </p:blipFill>
        <p:spPr>
          <a:xfrm>
            <a:off x="3005280" y="1981080"/>
            <a:ext cx="31334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stotl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of Pla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aster of them that kn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the third step to the scientific method - testing the hypothe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the syllogis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ught Alexander the Gr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o classify plants and anima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5" descr="_x000b_ARISTOT.GIF                                                    0CEAF0E3_x000c_Macintosh HD                   BEF76014:"/>
          <p:cNvPicPr/>
          <p:nvPr/>
        </p:nvPicPr>
        <p:blipFill>
          <a:blip r:embed="rId1"/>
          <a:stretch/>
        </p:blipFill>
        <p:spPr>
          <a:xfrm>
            <a:off x="4822920" y="1981080"/>
            <a:ext cx="34592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ies/Invention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events are not caused by the way the gods behav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is governed by natural law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predicted the eclipse of the sun</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diseases came from natural 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pocratic Oath: doctors should honor their teachers, do their best for the sick, never give poisons and keep the secrets of their pati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azz LET"/>
              </a:rPr>
              <a:t>The end.</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_x000e_GREECE1062.jpg                                                 00071491_x000c_Macintosh HD                   BEF76014:"/>
          <p:cNvPicPr/>
          <p:nvPr/>
        </p:nvPicPr>
        <p:blipFill>
          <a:blip r:embed="rId1"/>
          <a:stretch/>
        </p:blipFill>
        <p:spPr>
          <a:xfrm>
            <a:off x="685800" y="826920"/>
            <a:ext cx="7772400" cy="505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ympics - to honor Ze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ing - fought until one was knocked out or gave 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estrian Events - chariot racing and riding - jockeys rode without stirr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kration - boxing and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tathlon - combination of 5 events: discus, javelin, jumping, running,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ning - 4 types of ra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mping - they carried stone or lead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_x0017_180px-Olympic_flame.jpg                                        0CEBCEDB_x000c_Macintosh HD                   BEF76014:"/>
          <p:cNvPicPr/>
          <p:nvPr/>
        </p:nvPicPr>
        <p:blipFill>
          <a:blip r:embed="rId1"/>
          <a:stretch/>
        </p:blipFill>
        <p:spPr>
          <a:xfrm>
            <a:off x="2287440" y="609480"/>
            <a:ext cx="45691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rance to the Olympic Stadium</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Olympia</a:t>
            </a:r>
            <a:endParaRPr b="0" lang="en-US" sz="2800" spc="-1" strike="noStrike">
              <a:solidFill>
                <a:srgbClr val="000000"/>
              </a:solidFill>
              <a:latin typeface="Times New Roman"/>
            </a:endParaRPr>
          </a:p>
        </p:txBody>
      </p:sp>
      <p:pic>
        <p:nvPicPr>
          <p:cNvPr id="58" name="Picture 5" descr=""/>
          <p:cNvPicPr/>
          <p:nvPr/>
        </p:nvPicPr>
        <p:blipFill>
          <a:blip r:embed="rId1"/>
          <a:stretch/>
        </p:blipFill>
        <p:spPr>
          <a:xfrm>
            <a:off x="685800" y="2690640"/>
            <a:ext cx="3809880" cy="26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10;masks2.jpg                                                     00071491_x000c_Macintosh HD                   BEF76014:"/>
          <p:cNvPicPr/>
          <p:nvPr/>
        </p:nvPicPr>
        <p:blipFill>
          <a:blip r:embed="rId1"/>
          <a:stretch/>
        </p:blipFill>
        <p:spPr>
          <a:xfrm>
            <a:off x="2498760" y="609480"/>
            <a:ext cx="4145040" cy="54864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ater</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Ancient Greek theater has been fascinating.  Aeschylus, Sophocles, Euripides, Aristophanes and others, have been the teachers of morality, nobleness, courage and patriotism across the centuries.  </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Theater originated as a festival to the god Dionysus, the god of joyous life and hospitality.</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63" name="Picture 5" descr=""/>
          <p:cNvPicPr/>
          <p:nvPr/>
        </p:nvPicPr>
        <p:blipFill>
          <a:blip r:embed="rId1"/>
          <a:stretch/>
        </p:blipFill>
        <p:spPr>
          <a:xfrm>
            <a:off x="4648320" y="2733840"/>
            <a:ext cx="3809880" cy="26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ged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set in the past</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relationships between people and god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not all had unhappy ending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ough people suffered, most still carried on despite their sufferin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Tragedy</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chylus - wrote about power and its effect on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cles - suffering was due to sins and mistakes and suffering could make someone a better pers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ipides - people suffered because they did bad th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6:56:16Z</dcterms:created>
  <dc:creator>acsd acsd</dc:creator>
  <dc:description/>
  <dc:language>en-US</dc:language>
  <cp:lastModifiedBy>RomaK</cp:lastModifiedBy>
  <dcterms:modified xsi:type="dcterms:W3CDTF">2015-09-02T09:25:44Z</dcterms:modified>
  <cp:revision>66</cp:revision>
  <dc:subject/>
  <dc:title>Greek Cultural Contributions</dc:title>
</cp:coreProperties>
</file>